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0318-FAD4-40D7-8952-F06198AA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874B-7FEC-4BE8-8316-EDAC0311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427-01C3-4547-BB55-BAAACFC6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ABCA-D579-4568-801E-50986458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9F41-52B8-424E-B053-DC826009D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6B8D-DB9B-4F58-AC6F-FB5E6DF63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8069-1E81-40E5-8FA8-F4EB591C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422-7D66-48E5-8432-EE8BFDBA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3CC8-CCF6-4052-8256-97FA2EA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EA4E-99FC-4502-972B-B7CEC97A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4F70-DB9D-4384-87B3-083F7032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C0F2-D0CD-460E-8D2C-933B1B71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BED-4FEA-4203-85DB-40BBF90BA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835344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5194440" cy="102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32000" y="5876640"/>
            <a:ext cx="3816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Декември 20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706400" cy="110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77080" y="320760"/>
            <a:ext cx="172728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Times New Roman"/>
              </a:rPr>
              <a:t>Н А С О К И </a:t>
            </a:r>
            <a:br>
              <a:rPr sz="2800"/>
            </a:b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ИНТЕГРИРАНЕ НА ПОЛИТИКИТЕ ПО ОКОЛНА СРЕДА И ИЗМЕНЕНИЕ НА КЛИМАТА ВЪВ ФОНДОВЕТЕ З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ПЕРИОДА 2014 – 2020 Г.</a:t>
            </a:r>
            <a:r>
              <a:rPr b="1" lang="bg-BG" sz="40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Етап: Програмиране на фондовете към Общата стратегическ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ЕДВАРИТЕЛНИ УСЛОВИЯ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ъгласно чл. 17 от проекта на Общ регламент за всеки от фондовете по Общата стратегическа рамка се определят </a:t>
            </a:r>
            <a:r>
              <a:rPr b="1" lang="bg-BG" sz="2800" spc="-1" strike="noStrike" u="sng">
                <a:solidFill>
                  <a:srgbClr val="0070c0"/>
                </a:solidFill>
                <a:uFillTx/>
                <a:latin typeface="Times New Roman"/>
              </a:rPr>
              <a:t>предварителни условия, вкл. хоризонталните условности в областта на околната среда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Приложение IV към проек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Отговорник за изпълнение на условията по тематични цели 4, 5 и 6, както и на хоризонталното условие във връзка с ОВОС и екологична оценка, освен МОСВ, са и секторните министерства съобразно тяхната компет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8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9900"/>
                </a:solidFill>
                <a:latin typeface="Arial"/>
              </a:rPr>
              <a:t>ОПЕРАТИВНА ПРОГРАМА “ОКОЛНА СРЕДА 2007 – 2013 г.”</a:t>
            </a:r>
            <a:br>
              <a:rPr sz="2200"/>
            </a:br>
            <a:r>
              <a:rPr b="1" lang="en-US" sz="2200" spc="-1" strike="noStrike">
                <a:solidFill>
                  <a:srgbClr val="669900"/>
                </a:solidFill>
                <a:latin typeface="Arial"/>
              </a:rPr>
              <a:t>www.ope.moew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16360" y="4365720"/>
          <a:ext cx="5761080" cy="792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лагодаря Ви за вниманиет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881440" cy="15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8209080" cy="76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72360" y="198900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201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ТПРАВНА ТОЧ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 изпълнение на чл. 8 от проекта на общ регламент всяка оперативна програма следва да има анализ на потенциала за изпълнение на изискванията за интегриране на политиките за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Съгласно чл. 87, пар. 7, всяка оперативна програма (без техническа помощ), където е релевантно, следва да включва описание на специфичните дейности които ще вземат предвид изискванията за опазване на околната среда, ресурсната ефективност, адаптирането към и справянето с изменението на климата, устойчивостта към природни бедствия, превенцията и управлението на риска при избора на операции за финансиране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”</a:t>
            </a:r>
            <a:r>
              <a:rPr b="0" lang="bg-BG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СНОВНИ ЕЛЕМЕНТИ НА НАСОК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Насоките обхващат следните основни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Архитектура на програмирането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Основни изисквания на регламентите з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Настояща ситуация и необходимост от нов подход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Инструменти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във фаз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ограмиране”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иложени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2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Инструменти за интегр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иране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н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във фондовете към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 Общата стратегическа рамк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ериода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014 – 2020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56536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Анализ на състоя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Стратегическо 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Финансови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Екологична оце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редварителни усло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0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АНАЛИЗ НА СЪСТОЯНИЕТ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В подкрепа на изпълнението на новите ангажименти, МОСВ (чрез вътрешноведомствена работна група) анализира и обобщи законодателните изисквания, приложими за политиките по околна среда и изменени на климата за периода след 2013 г. и разработи Насоките за интегрир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Проектът на Насоки бе представен на компетентните ведомства за коментари и пред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СТРАТЕГИЧЕСКО ПЛАНИРАНЕ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8893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оритетите и дейностите във всяка оперативна програма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следва да бъдат достатъчни и адекватни за изпълнение на изискванията за интегриране на политиките по околна среда и изменение на климата в 5-те фонда и да са съобразени с изискванията за тематична концентрация на фондовете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т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а финансиране от оперативните програми са представени в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ложение I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към насоките. Те са основен инструмент за изпълнение на изискванията за интегриране на тези политики. Включени са и разяснения за осигуряване на допълняемост между отделните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6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водите за постигане на по-добър екологичен статус, по-висока ефективност ресурсите и справяне с последствията върху водите от изменението на клима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отпадъците, съобразно йерархията за управлението им и с оглед постигане на по - висока ефективност на този ресур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енергийната ефективност и В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подобряване качеството на въздуха и намаляване емисиите на парникови газ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опазване и възстановяване на биологичното разнообразие, включително мрежата НАТУРА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укрепване на капацитет и за техническа помо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755640" y="83664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Приложение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: </a:t>
            </a: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Необходими интерв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07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ФИНАНСОВИ СРЕДСТВ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57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Изпълнението на политиките за околна среда и изменение на климата изисква планиране и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осигуряване на съществен финансов ресурс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Необходимо е, да се предприемат мерки за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бъдещо проследяване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на разходите (</a:t>
            </a:r>
            <a:r>
              <a:rPr b="1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tracking)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за енергийна ефективност, възобновяеми енергийни източници, изменение на климата и биоразнообразие (вкл. Натура 2000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8209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ЕКОЛОГИЧНА ОЦЕНКА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Европейската комисия разработи 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Times New Roman"/>
              </a:rPr>
              <a:t>Указания за предварителна оценка на ОП за периода 2014-2020 г.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юни 2012 г.), даващи допълнителни насоки по екологичната оценка на оперативните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пазването им при програмирането е гаранция за адекватното интегриране на политиките по околна среда и изменение на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46:28Z</dcterms:created>
  <dc:creator>user</dc:creator>
  <dc:description/>
  <dc:language>en-US</dc:language>
  <cp:lastModifiedBy>user_nec</cp:lastModifiedBy>
  <dcterms:modified xsi:type="dcterms:W3CDTF">2012-12-15T07:27:00Z</dcterms:modified>
  <cp:revision>222</cp:revision>
  <dc:subject/>
  <dc:title>Slide 1</dc:title>
</cp:coreProperties>
</file>