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BCA-0849-4898-96F5-3999F12B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8A1E-16B1-4677-82B9-F2639E4A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B269-759A-4696-AEAC-D2194E2F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882-F876-44C2-A165-827A5855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EF62-40C6-463A-B923-83289F10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28D6-2439-44D1-8BCC-764B4A32B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E26-1AB5-445C-806B-773CB26F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E9B3-D4C9-49C7-AC00-AD1EA109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FC54-D200-4366-A112-A13242FD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6CC-40DD-4C23-83A0-D7A31073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1289-F01B-4EDD-BCB2-F52667D4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9C59-EB7D-4DD1-B060-154BCC05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C1AB-8D91-400F-85AB-BFC0D17F1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5589720"/>
            <a:ext cx="8353440" cy="11620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484360" y="620640"/>
            <a:ext cx="5194440" cy="1022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4932000" y="5876640"/>
            <a:ext cx="3816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Декември 201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</a:rPr>
              <a:t>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11280" y="333360"/>
            <a:ext cx="1706400" cy="1108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877080" y="320760"/>
            <a:ext cx="1727280" cy="949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333399"/>
                </a:solidFill>
                <a:latin typeface="Times New Roman"/>
              </a:rPr>
              <a:t>Н А С О К И </a:t>
            </a:r>
            <a:br>
              <a:rPr sz="2800"/>
            </a:b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ЗА ИНТЕГРИРАНЕ НА ПОЛИТИКИТЕ ПО ОКОЛНА СРЕДА И ИЗМЕНЕНИЕ НА КЛИМАТА ВЪВ ФОНДОВЕТЕ ЗА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ПЕРИОДА 2014 – 2020 Г.</a:t>
            </a:r>
            <a:r>
              <a:rPr b="1" lang="bg-BG" sz="4000" spc="-1" strike="noStrike">
                <a:solidFill>
                  <a:srgbClr val="333399"/>
                </a:solidFill>
                <a:latin typeface="Cambri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ambria"/>
              </a:rPr>
              <a:t> 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</a:rPr>
              <a:t>Етап: Програмиране на фондовете към Общата стратегическа рам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3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ПРЕДВАРИТЕЛНИ УСЛОВИЯ</a:t>
            </a:r>
            <a:r>
              <a:rPr b="1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569080" cy="42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Съгласно чл. 17 от проекта на Общ регламент за всеки от фондовете по Общата стратегическа рамка се определят </a:t>
            </a:r>
            <a:r>
              <a:rPr b="1" lang="bg-BG" sz="2800" spc="-1" strike="noStrike" u="sng">
                <a:solidFill>
                  <a:srgbClr val="0070c0"/>
                </a:solidFill>
                <a:uFillTx/>
                <a:latin typeface="Times New Roman"/>
              </a:rPr>
              <a:t>предварителни условия, вкл. хоризонталните условности в областта на околната среда</a:t>
            </a: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 (Приложение IV към проек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Отговорник за изпълнение на условията по тематични цели 4, 5 и 6, както и на хоризонталното условие във връзка с ОВОС и екологична оценка, освен МОСВ, са и секторните министерства съобразно тяхната компетент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5805360"/>
            <a:ext cx="8209080" cy="1052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8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1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200" spc="-1" strike="noStrike">
                <a:solidFill>
                  <a:srgbClr val="669900"/>
                </a:solidFill>
                <a:latin typeface="Arial"/>
              </a:rPr>
              <a:t>ОПЕРАТИВНА ПРОГРАМА “ОКОЛНА СРЕДА 2007 – 2013 г.”</a:t>
            </a:r>
            <a:br>
              <a:rPr sz="2200"/>
            </a:br>
            <a:r>
              <a:rPr b="1" lang="en-US" sz="2200" spc="-1" strike="noStrike">
                <a:solidFill>
                  <a:srgbClr val="669900"/>
                </a:solidFill>
                <a:latin typeface="Arial"/>
              </a:rPr>
              <a:t>www.ope.moew.government.b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916360" y="4365720"/>
          <a:ext cx="5761080" cy="792000"/>
        </p:xfrm>
        <a:graphic>
          <a:graphicData uri="http://schemas.openxmlformats.org/drawingml/2006/table">
            <a:tbl>
              <a:tblPr/>
              <a:tblGrid>
                <a:gridCol w="576108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Благодаря Ви за вниманието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881440" cy="15908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9640" y="5805360"/>
            <a:ext cx="8209080" cy="765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372360" y="1989000"/>
            <a:ext cx="2232000" cy="1581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187280" y="1989000"/>
            <a:ext cx="2016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ОТПРАВНА ТОЧ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4072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70c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В изпълнение на чл. 8 от проекта на общ регламент всяка оперативна програма следва да има анализ на потенциала за изпълнение на изискванията за интегриране на политиките за околна среда и изменение на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876"/>
              </a:spcBef>
              <a:buClr>
                <a:srgbClr val="0070c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Съгласно чл. 87, пар. 7, всяка оперативна програма (без техническа помощ), където е релевантно, следва да включва описание на специфичните дейности които ще вземат предвид изискванията за опазване на околната среда, ресурсната ефективност, адаптирането към и справянето с изменението на климата, устойчивостта към природни бедствия, превенцията и управлението на риска при избора на операции за финансиране.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”</a:t>
            </a:r>
            <a:r>
              <a:rPr b="0" lang="bg-BG" sz="1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4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ОСНОВНИ ЕЛЕМЕНТИ НА НАСОКИТЕ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64216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       </a:t>
            </a: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Насоките обхващат следните основни част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Въвед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Архитектура на програмирането н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 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за 2014 - 2020 г.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Основни изисквания на регламентите з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за интегр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иране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н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политиките по околна среда и изменение на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Настояща ситуация и необходимост от нов подход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Инструменти за интегр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иране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н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политиките по околна среда и изменение на климат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във фаза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“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програмиране” на фондовете към 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Общата стратегическа рамка</a:t>
            </a: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 за 2014 - 2020 г.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70c0"/>
                </a:solidFill>
                <a:latin typeface="Times New Roman"/>
              </a:rPr>
              <a:t>Приложени</a:t>
            </a:r>
            <a:r>
              <a:rPr b="1" lang="bg-BG" sz="2400" spc="-1" strike="noStrike">
                <a:solidFill>
                  <a:srgbClr val="0070c0"/>
                </a:solidFill>
                <a:latin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60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2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8920" y="980640"/>
            <a:ext cx="87138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Инструменти за интегр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иране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на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политиките по околна среда и изменение на климата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във фондовете към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 Общата стратегическа рамка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 за 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периода </a:t>
            </a:r>
            <a:r>
              <a:rPr b="1" lang="en-GB" sz="2600" spc="-1" strike="noStrike">
                <a:solidFill>
                  <a:srgbClr val="333399"/>
                </a:solidFill>
                <a:latin typeface="Times New Roman"/>
              </a:rPr>
              <a:t>2014 – 2020</a:t>
            </a:r>
            <a:r>
              <a:rPr b="1" lang="bg-BG" sz="2600" spc="-1" strike="noStrike">
                <a:solidFill>
                  <a:srgbClr val="333399"/>
                </a:solidFill>
                <a:latin typeface="Times New Roman"/>
              </a:rPr>
              <a:t>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00000" y="2565360"/>
            <a:ext cx="76327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Анализ на състояниет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Стратегическо планир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Финансови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Екологична оцен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15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</a:rPr>
              <a:t>Предварителни услов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15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68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0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bg-BG" sz="3200" spc="-1" strike="noStrike">
                <a:solidFill>
                  <a:srgbClr val="333399"/>
                </a:solidFill>
                <a:latin typeface="Times New Roman"/>
              </a:rPr>
              <a:t>АНАЛИЗ НА СЪСТОЯНИЕТО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40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В подкрепа на изпълнението на новите ангажименти, МОСВ (чрез вътрешноведомствена работна група) анализира и обобщи законодателните изисквания, приложими за политиките по околна среда и изменени на климата за периода след 2013 г. и разработи Насоките за интегриран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276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600" spc="-1" strike="noStrike">
                <a:solidFill>
                  <a:srgbClr val="0070c0"/>
                </a:solidFill>
                <a:latin typeface="Times New Roman"/>
              </a:rPr>
              <a:t>Проектът на Насоки бе представен на компетентните ведомства за коментари и предлож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8360" y="6093000"/>
            <a:ext cx="8209080" cy="765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76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8" name=""/>
          <p:cNvGraphicFramePr/>
          <p:nvPr/>
        </p:nvGraphicFramePr>
        <p:xfrm>
          <a:off x="468360" y="115920"/>
          <a:ext cx="8207280" cy="51732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136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СТРАТЕГИЧЕСКО ПЛАНИРАНЕ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701720"/>
            <a:ext cx="8893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Приоритетите и дейностите във всяка оперативна програма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следва да бъдат достатъчни и адекватни за изпълнение на изискванията за интегриране на политиките по околна среда и изменение на климата в 5-те фонда и да са съобразени с изискванията за тематична концентрация на фондовете от Е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100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те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за финансиране от оперативните програми са представени в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</a:rPr>
              <a:t>Приложение I</a:t>
            </a: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 към насоките. Те са основен инструмент за изпълнение на изискванията за интегриране на тези политики. Включени са и разяснения за осигуряване на допълняемост между отделните про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8209080" cy="6206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6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1125000"/>
            <a:ext cx="8136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по-добро управлението на водите за постигане на по-добър екологичен статус, по-висока ефективност ресурсите и справяне с последствията върху водите от изменението на клима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по-добро управлението на отпадъците, съобразно йерархията за управлението им и с оглед постигане на по - висока ефективност на този ресурс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действия по климата: енергийната ефективност и ВЕ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действия по климата: подобряване качеството на въздуха и намаляване емисиите на парникови газов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опазване и възстановяване на биологичното разнообразие, включително мрежата НАТУРА 200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 algn="just">
              <a:lnSpc>
                <a:spcPct val="80000"/>
              </a:lnSpc>
              <a:spcBef>
                <a:spcPts val="788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333399"/>
                </a:solidFill>
                <a:uFillTx/>
                <a:latin typeface="Times New Roman"/>
              </a:rPr>
              <a:t>Интервенции</a:t>
            </a: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70c0"/>
                </a:solidFill>
                <a:latin typeface="Times New Roman"/>
              </a:rPr>
              <a:t>за укрепване на капацитет и за техническа помощ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8209080" cy="6206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92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"/>
          <p:cNvSpPr/>
          <p:nvPr/>
        </p:nvSpPr>
        <p:spPr>
          <a:xfrm>
            <a:off x="755640" y="836640"/>
            <a:ext cx="777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Приложение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I: </a:t>
            </a:r>
            <a:r>
              <a:rPr b="1" lang="bg-BG" sz="3000" spc="-1" strike="noStrike">
                <a:solidFill>
                  <a:srgbClr val="333399"/>
                </a:solidFill>
                <a:latin typeface="Times New Roman"/>
              </a:rPr>
              <a:t>Необходими интервен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765000"/>
            <a:ext cx="820764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333399"/>
                </a:solidFill>
                <a:latin typeface="Times New Roman"/>
              </a:rPr>
              <a:t>ФИНАНСОВИ СРЕДСТВА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280" y="1485720"/>
            <a:ext cx="8280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2625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Изпълнението на политиките за околна среда и изменение на климата изисква планиране и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осигуряване на съществен финансов ресурс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2625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Необходимо е, да се предприемат мерки за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бъдещо проследяване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bg-BG" sz="3000" spc="-1" strike="noStrike" u="sng">
                <a:solidFill>
                  <a:srgbClr val="333399"/>
                </a:solidFill>
                <a:uFillTx/>
                <a:latin typeface="Times New Roman"/>
              </a:rPr>
              <a:t>на разходите (</a:t>
            </a:r>
            <a:r>
              <a:rPr b="1" lang="en-US" sz="3000" spc="-1" strike="noStrike" u="sng">
                <a:solidFill>
                  <a:srgbClr val="333399"/>
                </a:solidFill>
                <a:uFillTx/>
                <a:latin typeface="Times New Roman"/>
              </a:rPr>
              <a:t>tracking)</a:t>
            </a:r>
            <a:r>
              <a:rPr b="1" lang="en-US" sz="3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bg-BG" sz="3000" spc="-1" strike="noStrike">
                <a:solidFill>
                  <a:srgbClr val="0070c0"/>
                </a:solidFill>
                <a:latin typeface="Times New Roman"/>
              </a:rPr>
              <a:t>за енергийна ефективност, възобновяеми енергийни източници, изменение на климата и биоразнообразие (вкл. Натура 2000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6021360"/>
            <a:ext cx="8209080" cy="836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2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1052280"/>
            <a:ext cx="8207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ЕКОЛОГИЧНА ОЦЕНКА</a:t>
            </a:r>
            <a:r>
              <a:rPr b="1" lang="en-US" sz="36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42472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Европейската комисия разработи </a:t>
            </a:r>
            <a:r>
              <a:rPr b="1" lang="bg-BG" sz="2800" spc="-1" strike="noStrike" u="sng">
                <a:solidFill>
                  <a:srgbClr val="333399"/>
                </a:solidFill>
                <a:uFillTx/>
                <a:latin typeface="Times New Roman"/>
              </a:rPr>
              <a:t>Указания за предварителна оценка на ОП за периода 2014-2020 г.</a:t>
            </a: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 (юни 2012 г.), даващи допълнителни насоки по екологичната оценка на оперативните прог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2449"/>
              </a:spcBef>
              <a:buClr>
                <a:srgbClr val="009999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800" spc="-1" strike="noStrike">
                <a:solidFill>
                  <a:srgbClr val="0070c0"/>
                </a:solidFill>
                <a:latin typeface="Times New Roman"/>
              </a:rPr>
              <a:t>Спазването им при програмирането е гаранция за адекватното интегриране на политиките по околна среда и изменение на клим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6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5805360"/>
            <a:ext cx="8209080" cy="105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189000"/>
            <a:ext cx="3251160" cy="5061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7885080" y="404640"/>
            <a:ext cx="576000" cy="158760"/>
            <a:chOff x="7885080" y="404640"/>
            <a:chExt cx="576000" cy="158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8172360" y="404640"/>
              <a:ext cx="288720" cy="15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7885080" y="404640"/>
              <a:ext cx="233280" cy="1587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8360" y="115920"/>
          <a:ext cx="8207280" cy="57600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99cc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0T13:46:28Z</dcterms:created>
  <dc:creator>user</dc:creator>
  <dc:description/>
  <dc:language>en-US</dc:language>
  <cp:lastModifiedBy>user_nec</cp:lastModifiedBy>
  <dcterms:modified xsi:type="dcterms:W3CDTF">2012-12-15T07:27:00Z</dcterms:modified>
  <cp:revision>222</cp:revision>
  <dc:subject/>
  <dc:title>Slide 1</dc:title>
</cp:coreProperties>
</file>