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B327-A511-44D4-AD9F-7841B792857B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250 млн. лева за ОП НОИР (от 800 млн. от ЕС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A100-57FA-4129-8529-13E733B30D6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00F4-3449-4AF4-B175-E94886EE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D8D0-3836-49EB-B570-84024FCC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84D-1A2A-43DE-B6DC-2D80AF15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F345-D6EE-45D4-BA7D-20732533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9284-6554-4C36-AC9A-19B65EDC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2B3C-E9B4-433F-AA7D-E8023632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4BD2-A9F5-478D-BDD1-1A62EF32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369C-71BA-455C-827D-6A3F9022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1098-D7A4-45AE-B93A-364479AF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DA25-B319-4E19-86AA-8690DEA2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B2B5-A01E-4A62-8FA6-9A82204B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CA6F-B330-4425-BCDD-182624DC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FD25-72A9-43FD-A10F-B06888AB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64D5-A14E-495E-B768-5540C289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851D-0825-4373-961C-3787E4A5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8432-DA9F-40EE-B62D-2879F883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5BF1-0C57-48AC-B8C4-5FDD7E62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E33AC-BB0E-45CE-A187-7E39F87D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E8EEB-5C3F-424A-BCAB-F5AAB66A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A5A84-B048-4583-A39C-6D99F090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71B67-BD5C-4C2A-8D81-4BCE0E4D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F34CF-1C96-46E6-BF17-446DF0FC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15F-3C81-4C43-958C-A299C21B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93117-AC90-4799-BC09-D28A123F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C506A-477F-4797-AE85-1B67697D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98605-370F-46D8-8552-ED6F25CC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D56C0-A03C-4707-BF08-4ED25195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70D68-8D19-46D3-A95E-B85AE55F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AB27D-E615-479D-9E1F-3283258E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1BFDE-60B8-4DEA-87F9-493E1F0C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C8935-ECFA-4924-AF15-779F5A20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FEBDA-1C73-4667-BBCD-AB1C4CF7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FB238-013D-48B1-B45D-35FF674E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06AA-2BE2-48BB-9ADF-63CBC188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59C6F-FE2A-4141-87EF-46BF961E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635DD-DC34-44E4-ADD8-8E89CEE6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1F593-7B6B-48B9-89F9-D0361E44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A460D-6A2E-455C-BC73-21802397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C41F4-2540-4EBD-9AC5-0D554B92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7F255-96B5-46A9-99E9-471D67F6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56DE7-D82D-410C-93AD-ADB105F4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55477-5B17-4732-B116-DA7BE94B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DC9F3-E2A4-4144-972E-C55CB69D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A5D87-43B5-4A4D-A500-779A102B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5E6-E67E-4448-857F-90586EA7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C2B14-9B4D-4543-821C-39B0017F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48B7C-53B5-45C3-B6E2-EC66E39F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0681D-9B6B-4CAC-BF5A-30B8548E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70742-D505-4B12-96C9-159916D2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6290A-F993-4655-B169-BFC31D4D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E3573-ADFE-448C-B7D0-77A81132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D9F7F-3785-496F-A411-CD186369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A2D98-3C75-41AA-9922-FA5EB6C7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A8038-E980-48CD-BB50-A4AA38F9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81C1D-8725-4794-932F-B0DA54CE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B89D-6FAC-4F52-AE52-FEC3EAE3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B3B59-1073-4581-8BFD-14BDFB5A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D0A40-7E92-4FFD-8EA2-FADF49FF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989DA-6F40-4FF3-BD2C-3E6880EE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35C3F-BE1E-4180-8B04-69E493DD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CAC3E-7B57-43D9-B2D8-9F2F94CA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4B096-F535-410E-877C-1CD45FC0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CE46E-B077-496A-B795-C84E56D3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D19A0-60C0-4099-877B-DDB12C01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E3199-CBA9-4917-83C5-EC51FC9F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7D785-F86C-4B51-BED2-360245B1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A4E-6523-48B6-BC88-9D409B53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8A76F-3250-4618-A932-910FD452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01FF2-6A65-4681-A010-D18F1A32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72FAC-929C-4B3E-B9DB-2CF8A139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7A234-C3EB-4637-BD63-85C0CB27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6096A-6C23-4E05-BCBA-59A16B46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F2A50-F3A5-43F1-BDDF-75EFC8FD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00555-4A90-4536-BE4C-58F0AE32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2BA99-9708-44ED-A831-DF8F7439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97699-E766-4E03-9FA6-29409ABC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F69AA-761C-4108-94B7-5C2F5BB5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949-CDFC-48FE-B39A-20FB48F3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FE439-E093-4A40-90EC-9936886A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98A9B-7CEC-4883-9107-3463D95D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D7D73-1F52-459E-81AF-73DB2B7F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B3CF6-1950-468D-8466-686A8192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FDC9E-18E1-4DCB-8B7F-BA2AFB38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D22-4B2F-4475-93DF-6557A105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AB46-B2EA-4484-9456-257DF1AF5A05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F290-716B-4615-A8A4-5011878F38F1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1C6E-F541-4227-9F2D-67DC9C13F587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1A95-0D9E-4F8A-9EA5-E6CDB42EC1F0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7491-598C-48CF-995A-2907EFDFF81D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7D60-66E4-44A9-940A-AE6FE8453224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81EE-FD2D-4094-844A-4E94242DD136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Цели, приоритети и мерки в областта на образованието, науката и изследванията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2014 – 2020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3933360"/>
            <a:ext cx="7407000" cy="2374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20e04"/>
                </a:solidFill>
                <a:latin typeface="Corbel"/>
              </a:rPr>
              <a:t>Заседание на Съвета за координация при управлението на средствата от ЕС</a:t>
            </a: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16.10.2012 г., МС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Добромир Добрев, СУ “Св. Климент Охридски”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Член на работната група за подготовка на договора за партньорство 2014-202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Content Placeholder 7" descr=""/>
          <p:cNvPicPr/>
          <p:nvPr/>
        </p:nvPicPr>
        <p:blipFill>
          <a:blip r:embed="rId1"/>
          <a:stretch/>
        </p:blipFill>
        <p:spPr>
          <a:xfrm>
            <a:off x="1279440" y="1444680"/>
            <a:ext cx="7797960" cy="48229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8"/>
          <p:cNvSpPr/>
          <p:nvPr/>
        </p:nvSpPr>
        <p:spPr>
          <a:xfrm>
            <a:off x="1476360" y="25178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Content Placeholder 7" descr=""/>
          <p:cNvPicPr/>
          <p:nvPr/>
        </p:nvPicPr>
        <p:blipFill>
          <a:blip r:embed="rId1"/>
          <a:stretch/>
        </p:blipFill>
        <p:spPr>
          <a:xfrm>
            <a:off x="1298520" y="1444680"/>
            <a:ext cx="7821720" cy="48099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8"/>
          <p:cNvSpPr/>
          <p:nvPr/>
        </p:nvSpPr>
        <p:spPr>
          <a:xfrm>
            <a:off x="1403280" y="256536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Content Placeholder 7" descr=""/>
          <p:cNvPicPr/>
          <p:nvPr/>
        </p:nvPicPr>
        <p:blipFill>
          <a:blip r:embed="rId1"/>
          <a:stretch/>
        </p:blipFill>
        <p:spPr>
          <a:xfrm>
            <a:off x="1279440" y="1444680"/>
            <a:ext cx="7851960" cy="4809960"/>
          </a:xfrm>
          <a:prstGeom prst="rect">
            <a:avLst/>
          </a:prstGeom>
          <a:ln w="0">
            <a:noFill/>
          </a:ln>
        </p:spPr>
      </p:pic>
      <p:sp>
        <p:nvSpPr>
          <p:cNvPr id="380" name="TextBox 8"/>
          <p:cNvSpPr/>
          <p:nvPr/>
        </p:nvSpPr>
        <p:spPr>
          <a:xfrm>
            <a:off x="1403280" y="256536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Content Placeholder 7" descr=""/>
          <p:cNvPicPr/>
          <p:nvPr/>
        </p:nvPicPr>
        <p:blipFill>
          <a:blip r:embed="rId1"/>
          <a:stretch/>
        </p:blipFill>
        <p:spPr>
          <a:xfrm>
            <a:off x="1347840" y="1444680"/>
            <a:ext cx="7753320" cy="4822920"/>
          </a:xfrm>
          <a:prstGeom prst="rect">
            <a:avLst/>
          </a:prstGeom>
          <a:ln w="0">
            <a:noFill/>
          </a:ln>
        </p:spPr>
      </p:pic>
      <p:sp>
        <p:nvSpPr>
          <p:cNvPr id="384" name="TextBox 8"/>
          <p:cNvSpPr/>
          <p:nvPr/>
        </p:nvSpPr>
        <p:spPr>
          <a:xfrm>
            <a:off x="1476360" y="25178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Бенефициент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Министерство на образованието, младежта и науката (МОМН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научни и академични организации и институ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учебни заведени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социално-икономически партньори, работодатели, браншови организа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центрове за професионално обучен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общин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неправителствени организации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извънучилищни педагогически институ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младежки организа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спортни клубове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музеи и библиотек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Бенефициенти – 2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34960" y="1447560"/>
            <a:ext cx="749952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на агенция за професионално образование и обучение (НАПОО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на агенция за оценяване и акредитация (НАОА)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ен център "Европейски младежки програми и инициативи" (НЦЕМПИ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р за образователна интеграция на децата и учениците от етническите малцинства (ЦОИДУЕМ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р за контрол и оценка на качеството на училищното  образование (ЦКОКУО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р за информационно осигуряване на образованието (ЦИОО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т за развитие на човешките ресурси (ЦРЧР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ен институт за обучение и квалификация в системата на образованието (НИОКСО) и др. второстепенни разпоредители към МОМН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Примерни предефинирани проект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580760"/>
            <a:ext cx="749952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1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Изграждане на центрове за компетентност (Centers of Excellence) в приоритетни научни области и от интерес за Европ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1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Масова дигитализация на научно, културно-историческо и документално съдържан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2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Професионалното образование, ориентирано към ефективен достъп до пазара на труд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2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Студентски практики 2020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3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Предучилищни и Училищни програми за подобряване на достъпа и задържане на ученицит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мерни предефинирани проекти – 2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960" y="1492200"/>
            <a:ext cx="749952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3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Общински програми за личностно развит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3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Ученически стипенд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4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Студентски и докторантски стипенд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5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Реконструкция, ремонт и строителство на детски градини и училищ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5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Разширяване на прилагането на съвременните технологии в образователния процес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189000"/>
            <a:ext cx="7499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Управленски опит и административен капацитет на Главна дирекция „Структурни фондове и международни образователни програми”</a:t>
            </a:r>
            <a:br>
              <a:rPr sz="1800"/>
            </a:b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(ГД СФМОП) към МОМН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Управленски опит по изпълнението на следните функции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Междинно звено по ОП РЧР 2007 – 2013 по Приоритетна ос 3 “Подобряване качеството на образованието и обучението в съответствие с потребностите на пазара на труда за изграждане на икономика, основана на знанието” и Приоритетна ос 4 “Подобряване достъпа до образование и обучение”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бщ бюджет за ПО 3 и ПО 4 </a:t>
            </a:r>
            <a:r>
              <a:rPr b="1" lang="ru-RU" sz="2200" spc="-1" strike="noStrike">
                <a:solidFill>
                  <a:srgbClr val="320e04"/>
                </a:solidFill>
                <a:latin typeface="Corbel"/>
              </a:rPr>
              <a:t>– 854 684 111 лв.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(36% от бюджета на ОП РЧР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исок ръст на привлечени европейски средства и нисък дял на грешки (0,2 % при средно около 2 % за всички останали ОП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189000"/>
            <a:ext cx="7499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Управленски опит и административен капацитет на Главна дирекция „Структурни фондове и международни образователни програми”</a:t>
            </a:r>
            <a:br>
              <a:rPr sz="1800"/>
            </a:b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(ГД СФМОП) към МОМН – 2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34960" y="1447560"/>
            <a:ext cx="7499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Звено за изпълнение на проекти по Програма ФАР (до м. август 2009 г.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Изпълнителна агенция по първия Меморандум за сътрудничество на България 2004-2009 със страните донори на Финансовия механизъм на Европейското икономическо пространств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ограмен оператор по програма, одобрена съгласно Меморандума 2009-2014 г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Административен капацитет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90 служители, разделени в 7 отдел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опитът на служителите като част от Междинното звено по ОП РЧР  е подходяща основа за ефективно управление на новата Оперативна програм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572314"/>
                </a:solidFill>
                <a:latin typeface="Corbel"/>
              </a:rPr>
              <a:t>Съдържание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585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Актуално състояние на образованието </a:t>
            </a: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и науката </a:t>
            </a: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в Българ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Основни предпоставки за създаване на О</a:t>
            </a: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перативна програма “</a:t>
            </a: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Наука и образование за интелигентен растеж</a:t>
            </a: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” (ОП НОИР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Стратегическа и специфични цели на ОП НОИР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Тематична и структурна рамка на ОП НОИР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Приоритетни оси и мерки на ОП НОИР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g-BG" sz="4000" spc="-1" strike="noStrike">
                <a:solidFill>
                  <a:srgbClr val="572314"/>
                </a:solidFill>
                <a:latin typeface="Corbel"/>
              </a:rPr>
              <a:t>БЛАГОДАРЯ ВИ!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 algn="just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Оперативна програма “Наука и образование за интелигентен растеж 2014-2020” (ОП НОИР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just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59920"/>
            <a:ext cx="7499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бразователна структура на населението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600" y="1447560"/>
            <a:ext cx="74581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Паралел между актуалното състояние и заложените национални цели в Националната програма за реформи (2012-2020)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547640" y="2205000"/>
          <a:ext cx="7345440" cy="4114800"/>
        </p:xfrm>
        <a:graphic>
          <a:graphicData uri="http://schemas.openxmlformats.org/drawingml/2006/table">
            <a:tbl>
              <a:tblPr/>
              <a:tblGrid>
                <a:gridCol w="2087640"/>
                <a:gridCol w="2503440"/>
                <a:gridCol w="275436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ктуално състо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 данни за 2011 г. от: Наблюдение на работната сила, Н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ационални ц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заложени за 2020 г. в „Националната програма за реформи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ял на преждевременно напусналите образованиет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18 - 24 годи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,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ял на завършилите висше образ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30–34 годи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3, 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72314"/>
                </a:solidFill>
                <a:latin typeface="Corbel"/>
              </a:rPr>
              <a:t>Мястото на България в класацията на конкурентоспособностт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600" y="1447560"/>
            <a:ext cx="74581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България заема </a:t>
            </a:r>
            <a:r>
              <a:rPr b="1" lang="bg-BG" sz="2000" spc="-1" strike="noStrike">
                <a:solidFill>
                  <a:srgbClr val="000000"/>
                </a:solidFill>
                <a:latin typeface="Corbel"/>
              </a:rPr>
              <a:t>62-ро място</a:t>
            </a: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 от 144 страни за периода 2012-2013 г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В предишното издание на класацията България е заемала </a:t>
            </a:r>
            <a:r>
              <a:rPr b="1" lang="bg-BG" sz="2000" spc="-1" strike="noStrike">
                <a:solidFill>
                  <a:srgbClr val="000000"/>
                </a:solidFill>
                <a:latin typeface="Corbel"/>
              </a:rPr>
              <a:t>74-то място</a:t>
            </a: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Класацията е изготвена според 12 показателя, като България заема следните места по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здраве и основно образование - 49-то място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висше образование и обучение – 63-то място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начално образование - 67-мо място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иновации- 97-мо място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Corbel"/>
              </a:rPr>
              <a:t>Източник: Доклад за глобална конкурентоспособност 2012 - 2013 на Световния икономически форум (World Economic Forum), публикуван официално на 5 септември 2012 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сновни предпоставки в сферата на образованието, науката и изследваният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518840"/>
            <a:ext cx="752976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3297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Програмиране за новия програмен период – 2014-2020 г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0320" indent="-330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Актуални изисквания на нормативната уредба на ниво ЕС – проекти на регламенти: Общ регламент, Регламент на ЕСФ, Регламент на ЕФРР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70320" indent="-330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Други европейски документи – стратегия на Съюза за интелигентен, устойчив и приобщаващ растеж „Европа 2020”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70320" indent="-330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Национални стратегически и секторни документи, свързани с програмен период 2014 – 2020 г. – Национална програма за развитие </a:t>
            </a:r>
            <a:r>
              <a:rPr b="0" lang="bg-BG" sz="1600" spc="-1" strike="noStrike">
                <a:solidFill>
                  <a:srgbClr val="320e04"/>
                </a:solidFill>
                <a:latin typeface="Corbel"/>
              </a:rPr>
              <a:t>“</a:t>
            </a: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България 2020</a:t>
            </a:r>
            <a:r>
              <a:rPr b="0" lang="bg-BG" sz="1600" spc="-1" strike="noStrike">
                <a:solidFill>
                  <a:srgbClr val="320e04"/>
                </a:solidFill>
                <a:latin typeface="Corbel"/>
              </a:rPr>
              <a:t>”</a:t>
            </a: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, Национална програма за реформи (2012 – 2020 г.), Конвергентна програма за развитие (2012 – 2020 г</a:t>
            </a:r>
            <a:r>
              <a:rPr b="1" lang="ru-RU" sz="1600" spc="-1" strike="noStrike">
                <a:solidFill>
                  <a:srgbClr val="320e04"/>
                </a:solidFill>
                <a:latin typeface="Corbel"/>
              </a:rPr>
              <a:t>.</a:t>
            </a: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), рамкови стратегически документи в сферата на общото, професионалното и висшето образование, научните изследвания, ученето през целия живот, образователната интеграция, младежта и др.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5520" indent="-3297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Междинните резултати от настоящия програмен период 2007-2013 г. – анализи и оценки на отделни оперативни програми, както и на Националната стратегическа референтна рамка (която ще бъде заменена с договора за партньорство за периода 2014-2020 г.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40" name="Elbow Connector 24"/>
          <p:cNvCxnSpPr>
            <a:stCxn id="341" idx="4"/>
            <a:endCxn id="342" idx="3"/>
          </p:cNvCxnSpPr>
          <p:nvPr/>
        </p:nvCxnSpPr>
        <p:spPr>
          <a:xfrm rot="5400000">
            <a:off x="5270400" y="2969280"/>
            <a:ext cx="2593440" cy="36554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3" name="Elbow Connector 24"/>
          <p:cNvCxnSpPr/>
          <p:nvPr/>
        </p:nvCxnSpPr>
        <p:spPr>
          <a:xfrm rot="5400000">
            <a:off x="6741000" y="4355280"/>
            <a:ext cx="2580480" cy="7275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Oval 4"/>
          <p:cNvSpPr/>
          <p:nvPr/>
        </p:nvSpPr>
        <p:spPr>
          <a:xfrm>
            <a:off x="1835280" y="260280"/>
            <a:ext cx="6697440" cy="16560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Corbel"/>
              </a:rPr>
              <a:t>ОСНОВНА ЦЕ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rbel"/>
              </a:rPr>
              <a:t>Постигане на интелигентен растеж и изграждане на общество, базирано на знанието, чрез повишаване качеството  на научните изследвания и образовани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971640" y="2133720"/>
            <a:ext cx="2087640" cy="13665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7"/>
          <p:cNvSpPr/>
          <p:nvPr/>
        </p:nvSpPr>
        <p:spPr>
          <a:xfrm>
            <a:off x="3076560" y="2146320"/>
            <a:ext cx="2087640" cy="1368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8"/>
          <p:cNvSpPr/>
          <p:nvPr/>
        </p:nvSpPr>
        <p:spPr>
          <a:xfrm>
            <a:off x="5203800" y="2133720"/>
            <a:ext cx="2087640" cy="13665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7350120" y="2133720"/>
            <a:ext cx="2089080" cy="13665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"/>
          <p:cNvSpPr/>
          <p:nvPr/>
        </p:nvSpPr>
        <p:spPr>
          <a:xfrm>
            <a:off x="6588000" y="3789360"/>
            <a:ext cx="2448000" cy="1368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3: Образователна среда за активно социално приобща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</a:t>
            </a:r>
            <a:r>
              <a:rPr b="1" lang="bg-BG" sz="1800" spc="-1" strike="noStrike">
                <a:solidFill>
                  <a:srgbClr val="ffffff"/>
                </a:solidFill>
                <a:latin typeface="Corbel"/>
              </a:rPr>
              <a:t>С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3924360" y="3789360"/>
            <a:ext cx="2448000" cy="1368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2: Образование за реална заетост, мобилност и предприема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С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1258920" y="3789360"/>
            <a:ext cx="2449440" cy="1368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1: Научни изследвания и технологичн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Ф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6"/>
          <p:cNvSpPr/>
          <p:nvPr/>
        </p:nvSpPr>
        <p:spPr>
          <a:xfrm>
            <a:off x="2292480" y="5386320"/>
            <a:ext cx="2447640" cy="141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4: Насърчаване на образованието, уменията и ученето през целия жив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С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5219640" y="5373720"/>
            <a:ext cx="2448000" cy="141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orbe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O 5: </a:t>
            </a:r>
            <a:r>
              <a:rPr b="0" lang="bg-BG" sz="1800" spc="-1" strike="noStrike">
                <a:solidFill>
                  <a:srgbClr val="ffffff"/>
                </a:solidFill>
                <a:latin typeface="Corbel"/>
              </a:rPr>
              <a:t>Образователна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rbel"/>
              </a:rPr>
              <a:t>ЕФ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Elbow Connector 35"/>
          <p:cNvCxnSpPr>
            <a:stCxn id="347" idx="5"/>
            <a:endCxn id="348" idx="0"/>
          </p:cNvCxnSpPr>
          <p:nvPr/>
        </p:nvCxnSpPr>
        <p:spPr>
          <a:xfrm flipH="1" rot="16200000">
            <a:off x="7153200" y="3131280"/>
            <a:ext cx="489600" cy="827640"/>
          </a:xfrm>
          <a:prstGeom prst="bentConnector3">
            <a:avLst>
              <a:gd name="adj1" fmla="val 5298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Straight Arrow Connector 56"/>
          <p:cNvCxnSpPr>
            <a:stCxn id="346" idx="4"/>
            <a:endCxn id="349" idx="0"/>
          </p:cNvCxnSpPr>
          <p:nvPr/>
        </p:nvCxnSpPr>
        <p:spPr>
          <a:xfrm>
            <a:off x="4120920" y="3514320"/>
            <a:ext cx="102780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59"/>
          <p:cNvCxnSpPr>
            <a:stCxn id="345" idx="4"/>
            <a:endCxn id="350" idx="0"/>
          </p:cNvCxnSpPr>
          <p:nvPr/>
        </p:nvCxnSpPr>
        <p:spPr>
          <a:xfrm>
            <a:off x="2015640" y="3499920"/>
            <a:ext cx="469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2"/>
          <p:cNvCxnSpPr>
            <a:stCxn id="344" idx="4"/>
            <a:endCxn id="345" idx="0"/>
          </p:cNvCxnSpPr>
          <p:nvPr/>
        </p:nvCxnSpPr>
        <p:spPr>
          <a:xfrm flipH="1">
            <a:off x="2015640" y="1916280"/>
            <a:ext cx="316944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6"/>
          <p:cNvCxnSpPr>
            <a:stCxn id="344" idx="4"/>
            <a:endCxn id="346" idx="0"/>
          </p:cNvCxnSpPr>
          <p:nvPr/>
        </p:nvCxnSpPr>
        <p:spPr>
          <a:xfrm flipH="1">
            <a:off x="4120920" y="1915920"/>
            <a:ext cx="106416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9"/>
          <p:cNvCxnSpPr>
            <a:stCxn id="344" idx="4"/>
            <a:endCxn id="347" idx="0"/>
          </p:cNvCxnSpPr>
          <p:nvPr/>
        </p:nvCxnSpPr>
        <p:spPr>
          <a:xfrm>
            <a:off x="5184360" y="1916280"/>
            <a:ext cx="10645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72"/>
          <p:cNvCxnSpPr>
            <a:stCxn id="344" idx="4"/>
            <a:endCxn id="341" idx="0"/>
          </p:cNvCxnSpPr>
          <p:nvPr/>
        </p:nvCxnSpPr>
        <p:spPr>
          <a:xfrm>
            <a:off x="5184360" y="1916280"/>
            <a:ext cx="321084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Специфични цели на ОП НОИР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920"/>
            <a:ext cx="7499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326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Специфични цел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зграждане на конкурентна среда за качествени научни и иновативни изследвания чрез постепенно повишаване на средствата за научно-изследователска и иновационна дейност до 1,5 % от БВП към 2020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Създаване на благоприятна среда за възпроизводство и развитие на капацитета на научния секто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одобряване на качеството на висшето образование и повишаване броя на завършилите висше образование във възрастовата група на 30-34-годишните до 36%  към 2020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440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Специфични цели на ОП НОИР – 2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920"/>
            <a:ext cx="7499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33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Специфични цел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Corbe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одобряване на качеството на предучилищното и на училищното образование и намаляване на дела на преждевременно напусналите образователната система до 11 % към 2020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Corbe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Създаване на условия за развитие на личностни и професионални знания и умения през целия живо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Corbe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Развитие и модернизиране на научната и на образователната инфраструктура и повишаване броя на заетите в модернизирана сред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Content Placeholder 7" descr=""/>
          <p:cNvPicPr/>
          <p:nvPr/>
        </p:nvPicPr>
        <p:blipFill>
          <a:blip r:embed="rId1"/>
          <a:stretch/>
        </p:blipFill>
        <p:spPr>
          <a:xfrm>
            <a:off x="1322280" y="1444680"/>
            <a:ext cx="7742520" cy="48229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8"/>
          <p:cNvSpPr/>
          <p:nvPr/>
        </p:nvSpPr>
        <p:spPr>
          <a:xfrm>
            <a:off x="1476360" y="25178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4:40:36Z</dcterms:created>
  <dc:creator>Dobri Business</dc:creator>
  <dc:description/>
  <dc:language>en-US</dc:language>
  <cp:lastModifiedBy>Dobri Business</cp:lastModifiedBy>
  <dcterms:modified xsi:type="dcterms:W3CDTF">2012-10-15T13:05:04Z</dcterms:modified>
  <cp:revision>82</cp:revision>
  <dc:subject/>
  <dc:title>Концепция за мерките в областта на образованието, науката и изследванията за програмния период 2014 – 2020</dc:title>
</cp:coreProperties>
</file>