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4E51-D66E-4266-B0D6-F56FC228F3C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50 млн. лева за ОП НОИР (от 800 млн. от ЕС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87D4-034E-4E3A-A506-3E0E97C66B8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5D0-8662-4E7B-93F7-8CD00FE4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273-6597-442A-B22E-74EE20D3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26B-E897-449A-81D0-D288DD92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4CF-806E-4EB6-B495-6C04DE47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4290-910D-4B9E-8A44-FCB28938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5C47-B1B3-47C9-A6AC-8D682CBB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B8F9-4253-4477-B30F-3442B0A5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A2C1-5671-4A77-9E60-CA86544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C793-6237-478C-89DC-E02F8B81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B371-E9CA-48AB-81BB-905F5046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39FC-B78B-454E-894E-21172391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F34-7580-43B8-BA63-BFE6BC86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126F-704E-423D-8ADE-5DE0C285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0E48-B519-4B44-A740-725F95D8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A239-4296-44B1-A0F5-F2DBB007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4CE3-C40B-44AE-9773-8C4370FF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9AC2-DA70-4E3D-8D51-59479CD2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2FDF-8063-4CD7-AF95-387B00E1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B6E7-7173-467F-87F7-E078523A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1335-14E5-4D66-818F-D6636008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808D-84E9-4593-854F-0876A9AE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EB64-0A40-46BD-93D1-8C35082F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69B-3051-4071-8B8E-156C5852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C131-DB03-4E32-B27B-F76780AC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EC74-F330-47CD-A1E8-8FFA856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8CA48-F557-4CD3-9ECB-2C339D04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8EE0-85E2-4DD1-98BC-495B9FC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9990-5396-48E0-801D-0D541AF9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9766-A61C-475B-9FDE-F834A451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5D1B-0DCC-4FEB-A107-1AB2DA80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7A92-BAAE-4E5F-B007-A8A61A56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D9BC-C549-4FF5-9451-970E38D5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EE9D-D883-4337-8B9F-AA81C2D5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3AB-089C-40B2-8E01-DCEB476B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BBB6-F043-497B-BDD9-F609D607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4A2D-D6AC-454F-A44C-A30884C2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B1FB-0BC0-4163-B136-6B5153AD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B703-82DC-48D3-8155-7B5D8012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61A7-AC71-44F3-891E-A3F9FDC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1501-AB15-4956-9763-B7F5F334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F59E-24DF-48DA-A31D-AA21B15D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1B000-CB7F-4C87-B3AE-670056F7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B256-F69F-434F-BCCF-FFA17EEE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7EBC6-4F9F-4617-B9B9-2374ACE8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12F-984D-44E9-80FD-3D1A085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6416-3F93-4386-88A6-3595A5F7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70A9C-24D4-4192-9073-BF146731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C4D30-14E8-4BBE-8555-7EAFC282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76E7-2DFF-45F4-ABEC-8E4A2ED7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B0EA-EB17-4489-8A03-4526C8BA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5C8D6-C36D-416F-A30F-9A539716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738F-661A-4592-86F3-7C1780C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9417-EEBA-40F0-8452-4291DC8C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74D6F-CCF3-446E-8F6D-BAE409E8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5E128-FEB0-4148-836B-0B04DE27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766-7532-47B2-A73D-CFF81C97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694E0-97CC-4DDD-926C-71A3A994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ACEA9-80D4-417A-BB26-7864ACFF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DA738-AC38-4696-89B9-871C5E5E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1F774-906B-4706-B662-06AA3BE8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1E62-3586-4922-BA51-64293366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D3BCD-C4B1-454F-BFC2-C61E5DEC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F9C61-5A99-4C6C-B21E-97CDE753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F2C52-5B34-4375-8F83-BD11085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C4AFA-948B-4B56-B9B9-5441D6EA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1D04-8639-4BB5-A023-A77D4D4D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6A7-D3ED-4B61-B409-CD6875BE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F11A-28AF-4CDF-9E84-55DDE763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A99D-34A0-4522-B838-D829304B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AACDE-355B-49FE-9DCD-D1344358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6DE55-9E51-4CDD-8A00-8493A418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0620C-7FEF-4490-909C-CB3EC6B4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5BBB4-6048-49DF-825D-67123D2F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0485C-8EB1-4F4B-BB46-F8B9AB78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7F64-7583-42D4-B99A-E0F2B7B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77688-98BA-4D67-9A7D-4DA6774D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5419B-5739-4AF7-B1BB-2B70F79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552-0073-4DAA-BC06-221FA08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B751F-ACBF-4464-804D-CC00D5E2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63CA8-914D-45EC-86F6-6655BC14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515B5-1CB7-4518-A724-23ACC52E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9B0E-BBD6-4254-A12C-CB038EB5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8783B-8496-4650-9925-6CB12912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C5A-9896-4FF4-AB8D-C059AC3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5B0-4605-4581-9705-C7FFF705EC4E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8990-D9C0-4B01-9A8B-6F4E8FBFA9D1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206C-E701-486F-A68D-7889A36CCE32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2A83-A2DD-4454-9E57-833CB80AB656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8C77-D0FD-4761-BB10-663B92696B07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332-9DA6-4159-98E2-A82A3CC557F5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C89C-A66A-450F-8998-74016801AC8C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Цели, приоритети и мерки в областта на образованието, науката и изследванията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014 – 2020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3933360"/>
            <a:ext cx="7407000" cy="237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20e04"/>
                </a:solidFill>
                <a:latin typeface="Corbel"/>
              </a:rPr>
              <a:t>Заседание на Съвета за координация при управлението на средствата от ЕС</a:t>
            </a: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16.10.2012 г., М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Добромир Добрев, СУ “Св. Климент Охридски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Член на работната група за подготовка на договора за партньорство 2014-202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797960" cy="48229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Content Placeholder 7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7821720" cy="48099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851960" cy="48099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Content Placeholder 7" descr=""/>
          <p:cNvPicPr/>
          <p:nvPr/>
        </p:nvPicPr>
        <p:blipFill>
          <a:blip r:embed="rId1"/>
          <a:stretch/>
        </p:blipFill>
        <p:spPr>
          <a:xfrm>
            <a:off x="1347840" y="1444680"/>
            <a:ext cx="7753320" cy="48229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инистерство на образованието, младежта и науката (МОМ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аучни и академични организации 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учебни завед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оциално-икономически партньори, работодатели, браншов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центрове за професионално обу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общи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еправителствени организаци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вънучилищни педагогическ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ладежк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портни клубове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узеи и библиоте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професионално образование и обучение (НАП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оценяване и акредитация (НАОА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център "Европейски младежки програми и инициативи" (НЦЕМП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образователна интеграция на децата и учениците от етническите малцинства (ЦОИДУЕМ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контрол и оценка на качеството на училищното  образование (ЦКОКУ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информационно осигуряване на образованието (ЦИ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т за развитие на човешките ресурси (ЦРЧ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институт за обучение и квалификация в системата на образованието (НИОКСО) и др. второстепенни разпоредители към МОМ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580760"/>
            <a:ext cx="74995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Изграждане на центрове за компетентност (Centers of Excellence) в приоритетни научни области и от интерес за Европ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Масова дигитализация на научно, културно-историческо и документално съдържа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офесионалното образование, ориентирано към ефективен достъп до пазара на труд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практики 202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едучилищни и Училищни програми за подобряване на достъпа и задържане на ученицит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 – 2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9220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Общински програми за личностно развит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Учениче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4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и докторант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еконструкция, ремонт и строителство на детски градини и училищ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азширяване на прилагането на съвременните технологии в образователния процес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правленски опит по изпълнението на следните функци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Междинно звено по ОП РЧР 2007 – 2013 по Приоритетна ос 3 “Подобряване качеството на образованието и обучението в съответствие с потребностите на пазара на труда за изграждане на икономика, основана на знанието” и Приоритетна ос 4 “Подобряване достъпа до образование и обучение”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бщ бюджет за ПО 3 и ПО 4 </a:t>
            </a:r>
            <a:r>
              <a:rPr b="1" lang="ru-RU" sz="2200" spc="-1" strike="noStrike">
                <a:solidFill>
                  <a:srgbClr val="320e04"/>
                </a:solidFill>
                <a:latin typeface="Corbel"/>
              </a:rPr>
              <a:t>– 854 684 111 лв.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(36% от бюджета на ОП РЧР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исок ръст на привлечени европейски средства и нисък дял на грешки (0,2 % при средно около 2 % за всички останали ОП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 – 2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Звено за изпълнение на проекти по Програма ФАР (до м. август 2009 г.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пълнителна агенция по първия Меморандум за сътрудничество на България 2004-2009 със страните донори на Финансовия механизъм на Европейското икономическо пространств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ограмен оператор по програма, одобрена съгласно Меморандума 2009-2014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дминистративен капацитет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90 служители, разделени в 7 отдел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опитът на служителите като част от Междинното звено по ОП РЧР  е подходяща основа за ефективно управление на новата Оперативна програм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72314"/>
                </a:solidFill>
                <a:latin typeface="Corbel"/>
              </a:rPr>
              <a:t>Съдържа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Актуално състояние на образованието 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и науката 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в Българ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Основни предпоставки за създаване на О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еративна програма “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Наука и образование за интелигентен растеж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” (ОП НОИР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Стратегическа и специфични цел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Тематична и структурна рамка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риоритетни оси и мерк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g-BG" sz="4000" spc="-1" strike="noStrike">
                <a:solidFill>
                  <a:srgbClr val="572314"/>
                </a:solidFill>
                <a:latin typeface="Corbel"/>
              </a:rPr>
              <a:t>БЛАГОДАРЯ ВИ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Оперативна програма “Наука и образование за интелигентен растеж 2014-2020” (ОП НОИ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59920"/>
            <a:ext cx="7499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разователна структура на населениет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Паралел между актуалното състояние и заложените национални цели в Националната програма за реформи (2012-2020)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47640" y="2205000"/>
          <a:ext cx="7345440" cy="4114800"/>
        </p:xfrm>
        <a:graphic>
          <a:graphicData uri="http://schemas.openxmlformats.org/drawingml/2006/table">
            <a:tbl>
              <a:tblPr/>
              <a:tblGrid>
                <a:gridCol w="2087640"/>
                <a:gridCol w="2503440"/>
                <a:gridCol w="2754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ктуално съ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 данни за 2011 г. от: Наблюдение на работната сила, 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ционални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ложени за 2020 г. в „Националната програма за реформи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преждевременно напусналите образование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8 - 2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завършилите висше образ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30–3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,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72314"/>
                </a:solidFill>
                <a:latin typeface="Corbel"/>
              </a:rPr>
              <a:t>Мястото на България в класацията на конкурентоспособност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България заем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62-р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 от 144 страни за периода 2012-2013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В предишното издание на класацията България е заемал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74-т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Класацията е изготвена според 12 показателя, като България заема следните места п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здраве и основно образование - 49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висше образование и обучение – 63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начално образование - 67-м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иновации- 97-мо място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Corbel"/>
              </a:rPr>
              <a:t>Източник: Доклад за глобална конкурентоспособност 2012 - 2013 на Световния икономически форум (World Economic Forum), публикуван официално на 5 септември 2012 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и предпоставки в сферата на образованието, науката и изследвания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518840"/>
            <a:ext cx="75297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Програмиране за новия програмен период – 2014-2020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Актуални изисквания на нормативната уредба на ниво ЕС – проекти на регламенти: Общ регламент, Регламент на ЕСФ, Регламент на ЕФРР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Други европейски документи – стратегия на Съюза за интелигентен, устойчив и приобщаващ растеж „Европа 2020”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Национални стратегически и секторни документи, свързани с програмен период 2014 – 2020 г. – Национална програма за развитие 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“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България 2020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”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, Национална програма за реформи (2012 – 2020 г.), Конвергентна програма за развитие (2012 – 2020 г</a:t>
            </a:r>
            <a:r>
              <a:rPr b="1" lang="ru-RU" sz="1600" spc="-1" strike="noStrike">
                <a:solidFill>
                  <a:srgbClr val="320e04"/>
                </a:solidFill>
                <a:latin typeface="Corbel"/>
              </a:rPr>
              <a:t>.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), рамкови стратегически документи в сферата на общото, професионалното и висшето образование, научните изследвания, ученето през целия живот, образователната интеграция, младежта и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Междинните резултати от настоящия програмен период 2007-2013 г. – анализи и оценки на отделни оперативни програми, както и на Националната стратегическа референтна рамка (която ще бъде заменена с договора за партньорство за периода 2014-2020 г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0" name="Elbow Connector 24"/>
          <p:cNvCxnSpPr>
            <a:stCxn id="341" idx="4"/>
            <a:endCxn id="342" idx="3"/>
          </p:cNvCxnSpPr>
          <p:nvPr/>
        </p:nvCxnSpPr>
        <p:spPr>
          <a:xfrm rot="5400000">
            <a:off x="5270400" y="2969280"/>
            <a:ext cx="2593440" cy="36554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Elbow Connector 24"/>
          <p:cNvCxnSpPr/>
          <p:nvPr/>
        </p:nvCxnSpPr>
        <p:spPr>
          <a:xfrm rot="5400000">
            <a:off x="6741000" y="4355280"/>
            <a:ext cx="2580480" cy="7275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Oval 4"/>
          <p:cNvSpPr/>
          <p:nvPr/>
        </p:nvSpPr>
        <p:spPr>
          <a:xfrm>
            <a:off x="1835280" y="260280"/>
            <a:ext cx="669744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ОСНОВНА Ц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rbel"/>
              </a:rPr>
              <a:t>Постигане на интелигентен растеж и изграждане на общество, базирано на знанието, чрез повишаване качеството  на научните изследвания и образова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97164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3076560" y="2146320"/>
            <a:ext cx="2087640" cy="136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520380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7350120" y="2133720"/>
            <a:ext cx="208908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658800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3: Образователна среда за активно социално приобща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92436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2: Образование за реална заетост, мобилност и предприем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1258920" y="3789360"/>
            <a:ext cx="244944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1: Научни изследвания и технологич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2292480" y="5386320"/>
            <a:ext cx="244764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4: Насърчаване на образованието, уменията и ученето през целия 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5219640" y="5373720"/>
            <a:ext cx="244800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O 5: </a:t>
            </a: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Образовате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Elbow Connector 35"/>
          <p:cNvCxnSpPr>
            <a:stCxn id="347" idx="5"/>
            <a:endCxn id="348" idx="0"/>
          </p:cNvCxnSpPr>
          <p:nvPr/>
        </p:nvCxnSpPr>
        <p:spPr>
          <a:xfrm flipH="1" rot="16200000">
            <a:off x="7153200" y="3131280"/>
            <a:ext cx="489600" cy="827640"/>
          </a:xfrm>
          <a:prstGeom prst="bentConnector3">
            <a:avLst>
              <a:gd name="adj1" fmla="val 5298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Straight Arrow Connector 56"/>
          <p:cNvCxnSpPr>
            <a:stCxn id="346" idx="4"/>
            <a:endCxn id="349" idx="0"/>
          </p:cNvCxnSpPr>
          <p:nvPr/>
        </p:nvCxnSpPr>
        <p:spPr>
          <a:xfrm>
            <a:off x="4120920" y="3514320"/>
            <a:ext cx="10278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59"/>
          <p:cNvCxnSpPr>
            <a:stCxn id="345" idx="4"/>
            <a:endCxn id="350" idx="0"/>
          </p:cNvCxnSpPr>
          <p:nvPr/>
        </p:nvCxnSpPr>
        <p:spPr>
          <a:xfrm>
            <a:off x="2015640" y="349992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2"/>
          <p:cNvCxnSpPr>
            <a:stCxn id="344" idx="4"/>
            <a:endCxn id="345" idx="0"/>
          </p:cNvCxnSpPr>
          <p:nvPr/>
        </p:nvCxnSpPr>
        <p:spPr>
          <a:xfrm flipH="1">
            <a:off x="2015640" y="1916280"/>
            <a:ext cx="31694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6"/>
          <p:cNvCxnSpPr>
            <a:stCxn id="344" idx="4"/>
            <a:endCxn id="346" idx="0"/>
          </p:cNvCxnSpPr>
          <p:nvPr/>
        </p:nvCxnSpPr>
        <p:spPr>
          <a:xfrm flipH="1">
            <a:off x="4120920" y="1915920"/>
            <a:ext cx="10641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9"/>
          <p:cNvCxnSpPr>
            <a:stCxn id="344" idx="4"/>
            <a:endCxn id="347" idx="0"/>
          </p:cNvCxnSpPr>
          <p:nvPr/>
        </p:nvCxnSpPr>
        <p:spPr>
          <a:xfrm>
            <a:off x="5184360" y="1916280"/>
            <a:ext cx="1064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72"/>
          <p:cNvCxnSpPr>
            <a:stCxn id="344" idx="4"/>
            <a:endCxn id="341" idx="0"/>
          </p:cNvCxnSpPr>
          <p:nvPr/>
        </p:nvCxnSpPr>
        <p:spPr>
          <a:xfrm>
            <a:off x="5184360" y="1916280"/>
            <a:ext cx="32108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зграждане на конкурентна среда за качествени научни и иновативни изследвания чрез постепенно повишаване на средствата за научно-изследователска и иновационна дейност до 1,5 % от БВП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благоприятна среда за възпроизводство и развитие на капацитета на научния се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висшето образование и повишаване броя на завършилите висше образование във възрастовата група на 30-34-годишните до 36% 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440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предучилищното и на училищното образование и намаляване на дела на преждевременно напусналите образователната система до 11 %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условия за развитие на личностни и професионални знания и умения през целия живо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Развитие и модернизиране на научната и на образователната инфраструктура и повишаване броя на заетите в модернизирана сре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Content Placeholder 7" descr=""/>
          <p:cNvPicPr/>
          <p:nvPr/>
        </p:nvPicPr>
        <p:blipFill>
          <a:blip r:embed="rId1"/>
          <a:stretch/>
        </p:blipFill>
        <p:spPr>
          <a:xfrm>
            <a:off x="1322280" y="1444680"/>
            <a:ext cx="7742520" cy="48229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40:36Z</dcterms:created>
  <dc:creator>Dobri Business</dc:creator>
  <dc:description/>
  <dc:language>en-US</dc:language>
  <cp:lastModifiedBy>Dobri Business</cp:lastModifiedBy>
  <dcterms:modified xsi:type="dcterms:W3CDTF">2012-10-15T13:05:04Z</dcterms:modified>
  <cp:revision>82</cp:revision>
  <dc:subject/>
  <dc:title>Концепция за мерките в областта на образованието, науката и изследванията за програмния период 2014 – 2020</dc:title>
</cp:coreProperties>
</file>